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9E8-60E0-49A6-8D85-5E8D4B14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0FB-2D6D-4E29-A0F1-7C6BE97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310-F969-435E-A524-368BFF28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5E6-BEA5-43F1-882B-AF5467DC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F10-0A69-4B65-BC43-388B5C72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125-55E1-440A-8016-7DA3011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A871-E2E0-4041-AC34-D70B0830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FA7C-D446-4E90-B87A-7B4893B3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92AF-7B2D-4D95-B161-888215D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C01-4012-47CF-9A65-E26AB867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103-693B-4F27-96BE-E02BF8F4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B510-6490-4F0B-BB7E-63894D83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F943-A837-454D-B13A-EAF1C46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0F79-9E53-491B-B1B2-9FD4F3C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12D9-D0AB-4290-9797-3175DE7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ED4-0F6E-4136-B2D6-7A19765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326A-B3F5-4CAD-B213-5102EC5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A93-B6BF-47E3-B2E2-1465CC5B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3373-7223-4AA3-956C-C55D0B3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3784-BDFB-4391-B863-10909AB0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1BE-8F05-4D65-BDFC-F085A91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1332-70B3-45B8-B338-A49E3D27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950F-9431-4A1E-8EF5-81CC955D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C027-B724-49D3-9D8B-0EFBC746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0705-22C1-4273-B26E-F91C9AC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A291-EF72-452B-AF9A-FF9F948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3AC8-F32C-4431-B50C-F07FF44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15F3-BFA6-4E8F-AC7F-A9CFB0D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6CAE-426F-4FEC-A02F-8AC6047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396E-CEB3-4826-BAC5-0569FB5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6AF6-62D0-4B9B-89AA-582EAFF6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F71-97CA-4688-BB21-F48E242B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6466-7F1F-452A-AD60-1B9F2070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55BC-000C-4DE9-9D63-75B60004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796C-8ABC-45AE-983A-62B96ED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0769-57B4-4BEC-9BAF-7BEC5C6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8D63-6291-4790-A4FD-263969EC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C74E-1CA6-46BA-B951-9A94F68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16BD-A38E-4973-A543-07D7526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24A2-E5DC-4783-A3CD-02BFC5A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862D-C617-4945-B3A0-87257E2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8C1A-0B1B-4E6B-A5DF-1D5C363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6BE-D571-4EE1-8D40-B804B45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6DF6-11FF-4724-9B21-4E62750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518E-E07A-4CC9-A712-BA476776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D2AA-CEAA-4B03-859F-475DDF69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A8B-1766-436F-A606-DED5041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06B-F9CB-4C09-9EB6-E0B0FCD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944C7EB-D888-4C63-8425-57DD9961611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9BB7D90-D5B5-401F-B6D7-CC2EFCEACFF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859AEA0-6EB0-40E9-946E-1E80C61F266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B139FAF-556A-4D50-8371-AA488BF0141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mów łańcuch przeżycia. Wyjaśnij znaczenie „złotej godziny” i „platynowych minut”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476280"/>
            <a:ext cx="102204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Łańcuch przeżycia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znanie i wezwanie pomoc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częcie RKO - wczesna defibrylacj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pieka poresuscytacyjn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Złota godzina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60 minut, w trakcie których poszkodowany powinien się znaleźć w szpitalu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Platynowe minuty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pierwszych 5 minut, w czasie których należy podjąć zabiegi resuscytacyjne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